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7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24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24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38E7B-8152-428C-83A5-276D927BA7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452-80A0-4D77-9CFB-185F598E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DFD-9F55-4E59-B51F-3508736F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88F-FE63-4D78-BECC-F2E2E529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B84-4ACC-43CD-A42E-99119C71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6FA-51B3-4CA0-94D0-4B1DFCF2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ED7-FC82-4DF9-B1CE-5C77442E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49F-7439-45E6-9DC2-960F6F75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991-9B83-4F81-A228-240D7B1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156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275-5F30-4E3C-B6EF-8F324E61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0EC-6CCC-457D-8112-A18576D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30A-A6A2-4266-AA02-ED7D5B94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95A-50ED-4A20-B847-44D5025D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67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84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7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15619-B5D1-43D8-85D2-E71AA50BC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inco.com.br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200160"/>
            <a:ext cx="3240360" cy="879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53440" y="4859280"/>
            <a:ext cx="826236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o adequado d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AVG Anti-Virus Nework Edition 7.5</a:t>
            </a:r>
            <a:br>
              <a:rPr sz="40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UNIC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600360" y="1619280"/>
            <a:ext cx="30607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360" y="71280"/>
            <a:ext cx="2988000" cy="698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955800"/>
            <a:ext cx="907236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istória da Gris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7092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undada em 1991 (15 anos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 Rep. Tcheca logo após a queda do comunismo e liberação da reserva de mercado local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004 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Jan Griztbach / Tomas Hofer – Vendem suas  cotas sociais para um grupo de investidor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005 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tel Capital / Enterprise Investors  fazem um aporte de capital  e compram 65% da empres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006 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40 milhões de usuários no  mundo, sendo cerca de 2 milhões do Brasi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 Partners no Mundo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 Inglaterra / Alemanha / França / Brasil e 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360" y="57240"/>
            <a:ext cx="2988000" cy="69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837360"/>
            <a:ext cx="90709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Verdana"/>
              </a:rPr>
              <a:t>Sobre a Winco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640" y="1979280"/>
            <a:ext cx="849600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artner da Grisof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o Brasil desde 2003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issão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ação da Grisoft no Bras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tribuição e rede de revendedores brasile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orte técnico aos produtos AV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laboração no desenvolvimento de produtos para Griso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neypots e cooperação com empresas de segurança para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tecção mais rápida de Malwar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incipais clientes educacion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CKEN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P – Maioria das facul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UC  - 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0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60" y="57240"/>
            <a:ext cx="2988000" cy="698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900000"/>
            <a:ext cx="9072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O  AVG na Uni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360" y="1979640"/>
            <a:ext cx="83883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4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Licença de 25.000 usuários atribuída ao sistema “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Donation Program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”. Duração de 2 anos e com extensão por mais 1 anos  (até Dez/2005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Histórico  Winco x Unicamp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1o. Contato: Junho/2004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  - Grisoft descobre que a licença da Unicamp está disponível no Google e pede para que  entrássemos em contato para a Troca da mesm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18/Agosto/2004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 -  Palestra no CGI para os administradores de rede,  para ressaltar a importância de fazer uma administração centralizada traria no tocante a segurança da rede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Pregão 232/2005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– O AVG Anti-Virus Network Edition é o vencedor. Licenciamento até Jan/2007 - 16.000 computadores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360" y="57240"/>
            <a:ext cx="2988000" cy="698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900000"/>
            <a:ext cx="9072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Termin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360" y="1979640"/>
            <a:ext cx="838836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4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AVG Anti-Virus Network Edition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Nome da solução completa comprada pela Unicamp.  Este produto inclui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Proteção para servidores e estações (Windows/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Sistema de Gerenciamento remoto.</a:t>
            </a:r>
            <a:br>
              <a:rPr sz="16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4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AVG Anti-Virus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 Aplicativo que é instalado em todos os computadores, sejam Windows ou Linux, 32 ou 64 bits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Programa Anti-virus / PPI / Firew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Proteção em tempo real para as estações e servidores.</a:t>
            </a:r>
            <a:br>
              <a:rPr sz="16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4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AVG ADMI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 Módulo de administração remota da solução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Controle das configurações dos servidores e estaçõ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Atualização Central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Geração de Gráficos e inventário de maqui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640720" cy="22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36720" y="4606920"/>
            <a:ext cx="641988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Obrigado por sua aten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iores informa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winco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1) 4226 35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