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2302"/>
        <c:axId val="30152356"/>
      </c:barChart>
      <c:catAx>
        <c:axId val="84322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52356"/>
        <c:crosses val="autoZero"/>
        <c:auto val="1"/>
        <c:lblAlgn val="ctr"/>
        <c:lblOffset val="100"/>
        <c:noMultiLvlLbl val="0"/>
      </c:catAx>
      <c:valAx>
        <c:axId val="30152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2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BEB-5B93-46B8-87E1-C46F0287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21F-224E-42A7-9ED0-5A5AD0E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88D-866B-44F4-943A-22155084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017-0DB5-438B-9A80-CD2BE18E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1D1-DD7B-4759-B46E-ACCA67F1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9A0-6E70-4385-BEF7-43E8005D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089-F04A-43B6-BCD7-23A2A0F9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D35-2F33-4D0E-938F-59404BE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E85-A6BC-42AC-9907-E701942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896-973A-4218-8219-EF048FC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98C-4EA1-4FD3-B2B3-86CBCA8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194-0DC6-4AE8-87EC-4F9608A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23E80-6827-44BC-8802-0DEC66E9AB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