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23456"/>
        <c:axId val="34488055"/>
      </c:barChart>
      <c:catAx>
        <c:axId val="99523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88055"/>
        <c:crosses val="autoZero"/>
        <c:auto val="1"/>
        <c:lblAlgn val="ctr"/>
        <c:lblOffset val="100"/>
        <c:noMultiLvlLbl val="0"/>
      </c:catAx>
      <c:valAx>
        <c:axId val="34488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23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2887-0D89-47D6-837B-86EB0D21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F09-2440-4CC6-BED8-32EBF82C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C165-F39E-40D1-8291-13D03CCB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7A3-9E79-4912-B86B-9143B299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0587-6314-461B-A24B-868742CA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EB75-E5E1-47A3-B006-74035D54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59B-FC9E-4BE9-AF31-92C25EF1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ED3-47E2-48A8-9647-C6BC3CA1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0AAA-7E17-4A18-B7D0-1DFF82E0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7D27-3699-4E35-9BC1-EC880078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94B9-177E-4BF5-AF5B-260BE70C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6B0-AF83-4F99-AA62-8A68EDDF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FB533-197E-44F2-8AC1-926CA16218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