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48742"/>
        <c:axId val="53224697"/>
      </c:barChart>
      <c:catAx>
        <c:axId val="20748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24697"/>
        <c:crosses val="autoZero"/>
        <c:auto val="1"/>
        <c:lblAlgn val="ctr"/>
        <c:lblOffset val="100"/>
        <c:noMultiLvlLbl val="0"/>
      </c:catAx>
      <c:valAx>
        <c:axId val="53224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48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793-5571-484A-B61B-262F8C09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2D7-6A68-4839-B6F6-E8ECD497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718-D848-4943-89E7-AA9601DA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C58-C111-4868-BF41-6B35DBC3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A4C-63D4-437D-98D8-CC4CCE9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6E2-8C8F-42D1-9235-541DC51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035-886A-45E9-9538-D057D37B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AF5-803D-4391-B0E8-9CC8A64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679-DCA5-42A2-8A38-8C45111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DF0-5793-49CC-8DFD-0B54D6EC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207-1E84-4154-9468-A02131F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54F-7E48-4E69-A4F6-1CFABA1E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095DE-5D89-45D7-9348-728816D25A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