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43910"/>
        <c:axId val="20206353"/>
      </c:barChart>
      <c:catAx>
        <c:axId val="59343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06353"/>
        <c:crosses val="autoZero"/>
        <c:auto val="1"/>
        <c:lblAlgn val="ctr"/>
        <c:lblOffset val="100"/>
        <c:noMultiLvlLbl val="0"/>
      </c:catAx>
      <c:valAx>
        <c:axId val="20206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43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BAE-C739-43E6-B053-39F4FBF3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8F4-E3E7-4160-B28E-66BECFEA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E19-9254-4F5E-9726-F4D26B98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B6D-3372-45A5-850B-1BA534E0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BBF-AD92-4572-A958-6B1A2351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508-02B5-4294-A157-F875C5F7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F9B-4660-4C7F-A1A9-4AE9EDF5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F7A-AFEE-48CE-8CA6-CA7BA68B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5C7-9CC1-420A-91F5-5DCCB49E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E41-1CEF-40D2-B080-B9C34651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368-1D37-4C5F-AA9C-AD553E98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F2D-B707-42BB-B819-298AB9A5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EEF2F-264D-4C7E-BE5A-043F8053C8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