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94347"/>
        <c:axId val="31958694"/>
      </c:barChart>
      <c:catAx>
        <c:axId val="92894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58694"/>
        <c:crosses val="autoZero"/>
        <c:auto val="1"/>
        <c:lblAlgn val="ctr"/>
        <c:lblOffset val="100"/>
        <c:noMultiLvlLbl val="0"/>
      </c:catAx>
      <c:valAx>
        <c:axId val="319586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94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A5E3-60F5-48F0-9297-DE80CC5F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2CB8-0663-4FCC-98D4-47C986E9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A9F-11CB-45BA-AD1C-583E806C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9DB-61C5-41A5-8625-C67A4734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F92-9C68-45C0-A73C-7674E5CA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E6FD-B120-4938-8C27-1E742B70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E6BE-2B4D-4870-A260-5D9BFFC9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B886-BE2E-4333-A71B-8A151E53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0CA-7934-43B8-A7A7-1706EA60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9F18-C904-4334-99C6-E96C7C53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9F9C-7CA4-4106-A4CE-09FBC01F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FCC-144F-4C93-895F-DE47492F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7DDA8-4F74-4916-AE34-79B3B37D38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