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50382"/>
        <c:axId val="41409090"/>
      </c:barChart>
      <c:catAx>
        <c:axId val="23950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9090"/>
        <c:crosses val="autoZero"/>
        <c:auto val="1"/>
        <c:lblAlgn val="ctr"/>
        <c:lblOffset val="100"/>
        <c:noMultiLvlLbl val="0"/>
      </c:catAx>
      <c:valAx>
        <c:axId val="4140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0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8B8-1C0D-41A4-8B15-B8E078E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0D1-EA10-45DB-B8ED-1797F9D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3E8-9222-45E4-8869-4E1BB05D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2EE-6636-48F1-A94B-54A95CC1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B0A-0BC1-4DB7-94F5-F8527A4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565-5DC5-4758-8057-EBA9A6FB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E4F-9BB2-4886-BA71-F8D644C6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6FF-E010-4ED5-8B28-1F4012F4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AD6-812A-4F8B-9D50-FAC3520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558-58F2-409E-8AA2-87D935D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BDB-87E1-420B-AB2C-48D0215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A00-4FF2-4849-9FCA-F33D776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7C44A-EC7E-43CF-AAF8-AD9CE20242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