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51482"/>
        <c:axId val="62986666"/>
      </c:barChart>
      <c:catAx>
        <c:axId val="67451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6666"/>
        <c:crosses val="autoZero"/>
        <c:auto val="1"/>
        <c:lblAlgn val="ctr"/>
        <c:lblOffset val="100"/>
        <c:noMultiLvlLbl val="0"/>
      </c:catAx>
      <c:valAx>
        <c:axId val="62986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1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6BA-6F0B-4BBD-BB7B-55486F8D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03F-B272-4B5C-9E08-636E49DF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8CA-35A3-44FC-AC5A-A3CF2942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2CC-C1EF-4C92-9867-47304084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08D-C168-466F-9176-40CD4C5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602-8E87-4EA1-9BC9-4C642EE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70A-F2FB-446A-A749-AC796C35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6E4-887E-4E39-86A9-ADF6D9D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525-B0C8-4F2A-9571-3F13B059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69E-A8FC-441B-8706-C8441C6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974-25EB-45EB-A0DB-4584596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048-6E28-4372-9CC0-366BE13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5CFB7-1D38-4768-B9E3-EE5E71FC7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