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25437"/>
        <c:axId val="12417074"/>
      </c:barChart>
      <c:catAx>
        <c:axId val="783254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17074"/>
        <c:crosses val="autoZero"/>
        <c:auto val="1"/>
        <c:lblAlgn val="ctr"/>
        <c:lblOffset val="100"/>
        <c:noMultiLvlLbl val="0"/>
      </c:catAx>
      <c:valAx>
        <c:axId val="124170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254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6A3-067E-4569-B283-275D4A96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C98-A8AF-486C-ACEB-CC9073F9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AEB4-EA9B-42F6-A35B-2CA310C5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4A4A-8D8B-4843-B268-72161980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E48-8CD8-482C-922E-2BE74666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26F7-ABBC-4F7E-BD0C-17B123D7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FEB-697B-4111-A772-1B6067EB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B0B-49BA-4B5B-8EE4-8CBAA16B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B043-E0EE-442F-86A4-31078D1F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45E7-8DAB-4B87-B44B-650249AD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D25C-1F85-49B0-AB62-CCF4FE80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782-97F3-49C1-9FFE-63C190A9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20707-6CDE-47B7-A697-189A47ABCC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