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92586"/>
        <c:axId val="78485319"/>
      </c:barChart>
      <c:catAx>
        <c:axId val="39792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85319"/>
        <c:crosses val="autoZero"/>
        <c:auto val="1"/>
        <c:lblAlgn val="ctr"/>
        <c:lblOffset val="100"/>
        <c:noMultiLvlLbl val="0"/>
      </c:catAx>
      <c:valAx>
        <c:axId val="78485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92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D56-2A79-4198-AB7F-66FB7343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9AE-F11B-4716-A65E-C4840BC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89E-8FAF-47CC-A1CC-A3C0F618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F2E-2697-42B9-B403-8153DD23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E97-8615-4661-90C6-F380B29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3F6-E7C2-488A-8734-D0C7FE1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8CE-D59A-466D-9901-53B9642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CF2-43E0-4611-BDC9-10C83C8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AEF-9761-4B30-9932-659B2E4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CB5-5D63-4FD5-BB3F-88DE62E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801-0919-4D11-8A1E-E8EC045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176-9FD2-46D1-AA6D-46CE728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6EBAA-665E-414A-9538-FD7CEB6DB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