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52855"/>
        <c:axId val="22074722"/>
      </c:barChart>
      <c:catAx>
        <c:axId val="15752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74722"/>
        <c:crosses val="autoZero"/>
        <c:auto val="1"/>
        <c:lblAlgn val="ctr"/>
        <c:lblOffset val="100"/>
        <c:noMultiLvlLbl val="0"/>
      </c:catAx>
      <c:valAx>
        <c:axId val="22074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52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5E3-2B1C-4ADF-8C88-6F1E5113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891-55DC-442F-9A67-E419CCA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A80-4CF5-449B-8C5F-8D9F2D2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6C7-201C-46F0-AC73-56D961D9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935-73C7-4D44-9E8A-869797B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EB4-8974-4A40-B3E5-CF23267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A6-F424-411E-AC1A-0B13B5F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F5F-DE2E-43FE-8E2F-421C603A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A13-04D7-4D45-8188-52569593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3C2-9E9F-4527-A4B2-B352C49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711-BC0C-4583-BBFD-DFB6DBDD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529-581C-4AEB-85D2-17426F2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498DF-D01B-4E65-A14E-78425F5EBE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