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49822"/>
        <c:axId val="64449258"/>
      </c:barChart>
      <c:catAx>
        <c:axId val="18049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49258"/>
        <c:crosses val="autoZero"/>
        <c:auto val="1"/>
        <c:lblAlgn val="ctr"/>
        <c:lblOffset val="100"/>
        <c:noMultiLvlLbl val="0"/>
      </c:catAx>
      <c:valAx>
        <c:axId val="64449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9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236-AC31-4CB2-A2BB-26CC836E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8ED-E69F-4AAE-88F1-A894F16D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5F4-F7B7-451E-95FF-00B0147C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717-2B33-44B0-8961-9345D7E7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471-68E7-4624-8FDF-F7D48F3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FD1-9BA4-44AC-BFA4-D7964D5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9AC-664F-4D4A-B488-820FD39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72A-3E79-46E6-9A01-8523519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905-A037-43E1-9C62-993F48B9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06-885A-4CBA-A8C7-9E735A9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805-B412-4698-8AF0-B54524E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81C-5704-421A-BEBF-901EBBB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020A6-2902-4A1E-8EE5-A012DD0EDF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