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826933"/>
        <c:axId val="57416889"/>
      </c:barChart>
      <c:catAx>
        <c:axId val="51826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16889"/>
        <c:crosses val="autoZero"/>
        <c:auto val="1"/>
        <c:lblAlgn val="ctr"/>
        <c:lblOffset val="100"/>
        <c:noMultiLvlLbl val="0"/>
      </c:catAx>
      <c:valAx>
        <c:axId val="574168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26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6447-31CD-400C-8891-C91CF399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694F-2291-4954-AB87-0469DB4F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1CE-EEDB-4026-9B0A-8801166D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0F4F-3745-4F7D-B23C-EA50C32A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D116-39D5-4656-BBF0-7837562D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B61-4E9A-4E1F-9C73-44A6B8BE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23B-8B90-4AC7-BF00-0A1A8D8C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3B5-7BFF-4AA6-8CA3-5E354E86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1DE-E6C8-43E0-97C1-D3C98912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BBB-0927-4BA4-BEC3-4FAFB72C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C625-D6FF-4265-97CE-3CC2C0C4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2E78-2F89-4190-B1F5-ED579DE8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3BB34-ACF9-4164-9134-CA3FB558B0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