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72505"/>
        <c:axId val="14768666"/>
      </c:barChart>
      <c:catAx>
        <c:axId val="81072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68666"/>
        <c:crosses val="autoZero"/>
        <c:auto val="1"/>
        <c:lblAlgn val="ctr"/>
        <c:lblOffset val="100"/>
        <c:noMultiLvlLbl val="0"/>
      </c:catAx>
      <c:valAx>
        <c:axId val="14768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2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8F2-066F-4339-AF8C-63DCAC4E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095-4CB8-4AC1-9D93-A9125657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3E5-76E7-4237-926B-1DAF7647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E3B-157E-4C1C-BFD0-84F65856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150-15B9-40BE-A531-57F48577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486-D535-4382-878D-2F95863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41C-AEF2-4AD2-8C86-A60C385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C0C-F835-410C-A0EA-94EF751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59F-31D3-4CDC-B146-6B682F3C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4DD-DF7B-467D-B27B-E65F5E5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FB4-D82F-4471-8217-E5C9A35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85D-D542-45BC-B618-03EF4C6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90157-9801-4463-A818-519E79A12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