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03178"/>
        <c:axId val="19326045"/>
      </c:barChart>
      <c:catAx>
        <c:axId val="838031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26045"/>
        <c:crosses val="autoZero"/>
        <c:auto val="1"/>
        <c:lblAlgn val="ctr"/>
        <c:lblOffset val="100"/>
        <c:noMultiLvlLbl val="0"/>
      </c:catAx>
      <c:valAx>
        <c:axId val="19326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031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05F-27E4-4E7D-B875-D29DF72A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457-5E9B-4B9E-B50F-414597A6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C61-83BA-4116-BFD8-8597B46C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2F5-3053-4C6F-A190-2C0EA4AD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89B-783F-4920-9677-78DDFDAD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1DA-23D3-4BC7-92DC-EF9390A0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0D9-8777-4F1B-BE25-A39E069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A91-E263-441D-964C-3EB9D26D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E04-346F-4FE7-B0F6-FC19D0D2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BEB-EAB9-4302-A06A-B7842B59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C6A-6312-4C15-8907-A938574D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835-F256-4220-8717-F86C2F2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8E5B5-760D-41F5-B6F8-E99FD57B5E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