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64421"/>
        <c:axId val="53065320"/>
      </c:barChart>
      <c:catAx>
        <c:axId val="90664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5320"/>
        <c:crosses val="autoZero"/>
        <c:auto val="1"/>
        <c:lblAlgn val="ctr"/>
        <c:lblOffset val="100"/>
        <c:noMultiLvlLbl val="0"/>
      </c:catAx>
      <c:valAx>
        <c:axId val="53065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64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AFE-B4A0-4DAA-8A6B-F2823309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7DD-A232-4EA8-9E08-7C9AB6A2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453-E940-4191-8994-964A0E7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DFC-7502-4B1D-B310-2462D563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985-43AF-4A0F-8564-D789BB79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075-80D1-41C5-AA69-EE1F8EBD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72C-D0AB-413A-AB51-132C8E39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CFF-FD1C-4FEB-BE5B-0E1441E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E59-3028-4AAB-8879-57D811A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804-4656-47AB-B34F-6348408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A15-A169-4371-9FA9-06C4400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5DE-7A7F-4E50-86D9-D39E5EF9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2A84E-361B-4B13-A4B9-4921DAF4B9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