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04355"/>
        <c:axId val="59143479"/>
      </c:barChart>
      <c:catAx>
        <c:axId val="82043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43479"/>
        <c:crosses val="autoZero"/>
        <c:auto val="1"/>
        <c:lblAlgn val="ctr"/>
        <c:lblOffset val="100"/>
        <c:noMultiLvlLbl val="0"/>
      </c:catAx>
      <c:valAx>
        <c:axId val="591434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43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AF88-7C2A-4B5E-8BC3-CFFB9D0F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ADE1-0543-4342-92C4-6898AAD6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6C5F-2293-46CB-B1E0-52DCA4F7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50F6-7F53-4A85-83A7-65B04ABE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E2F7-4DEF-4689-875A-F3747D57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E357-EA96-4CB0-9D7E-CE6A220F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345D-3FAB-49BC-9386-D85191EE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35CB-FEFB-421A-8792-998E10FA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D1A6-2408-4CEE-898C-72A15B94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A40D-FA1D-4AAB-B798-CF8D62C0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6E56-DA80-4F63-A75F-21106036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2424-D2B9-4A3D-B0DE-22D8D889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DC3AD-69CF-41EE-9D9E-95F9F24C18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