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257"/>
        <c:axId val="17068750"/>
      </c:barChart>
      <c:catAx>
        <c:axId val="875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68750"/>
        <c:crosses val="autoZero"/>
        <c:auto val="1"/>
        <c:lblAlgn val="ctr"/>
        <c:lblOffset val="100"/>
        <c:noMultiLvlLbl val="0"/>
      </c:catAx>
      <c:valAx>
        <c:axId val="17068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E94D-F7D5-4435-B581-A3F1B6D1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6CDD-2F14-4728-A831-10C51092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2801-CE8C-42A4-BC13-EABB0BAD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7C62-06FB-40F3-953D-3DB87038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CA3-E53D-47A6-B8C5-B50A37D9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C4E-2ECC-439E-B25E-76FBACCA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2C84-660E-4687-98DA-9E80EE48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258E-4F8F-413A-A885-121B8365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AB06-B181-4D98-9A88-0B124EDA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6825-937F-4DE3-8CB8-510DD8F9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C39-C8A7-4B4D-86AC-DCB46EEC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BF0E-1A0B-433F-88FB-3961A3BD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7CB4D-5002-4282-98CC-A3F026D47D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