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60515"/>
        <c:axId val="96526810"/>
      </c:barChart>
      <c:catAx>
        <c:axId val="86460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26810"/>
        <c:crosses val="autoZero"/>
        <c:auto val="1"/>
        <c:lblAlgn val="ctr"/>
        <c:lblOffset val="100"/>
        <c:noMultiLvlLbl val="0"/>
      </c:catAx>
      <c:valAx>
        <c:axId val="96526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60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3FC-158F-429D-B1D2-CD874E68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F6D-3C4C-4F3F-A001-C3038C11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543-A4EC-41FD-835A-9CBA4339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DAD-F2C0-4642-882B-85F6566A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018-BE24-4A6B-B0EA-74796173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B1A-7780-48A6-93D0-EB285F35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35C-D3F8-4F2F-B69A-813C6095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D6A-CC0C-4EC3-B821-917128E3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380-619F-4615-B9FF-F800D07A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D6E-EB4F-40A2-B8B6-8264433A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E6D-E623-4E84-BB38-76175DDF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C00-7F60-4AC0-9671-358384F5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CC927-DCC8-4787-B894-16BD0A3A40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