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47206"/>
        <c:axId val="35421073"/>
      </c:barChart>
      <c:catAx>
        <c:axId val="19847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21073"/>
        <c:crosses val="autoZero"/>
        <c:auto val="1"/>
        <c:lblAlgn val="ctr"/>
        <c:lblOffset val="100"/>
        <c:noMultiLvlLbl val="0"/>
      </c:catAx>
      <c:valAx>
        <c:axId val="35421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47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93B-0E57-4B04-9EA1-CA8F2121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59F-EE71-400E-BD4B-68871A3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834-9F97-43C8-8D87-A30E8A50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74E-0E4A-414A-BB90-848F2A17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1F4-B530-489D-8E27-3761C73C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88D-80B3-4B95-B27E-8D49D7CB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27F-3485-4C1C-9AE0-7170399F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CC9-C6B5-4C84-9DAC-E81BCE52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CB9-6625-4C2A-8CEA-F2AD78B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D79-9A4E-4A0A-8C27-E8727C3D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94B-E25F-430E-9EAF-9BC2E227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6D5-8D1F-4346-921C-FECA8A0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3A0B5-4972-4208-A7B4-EE3F640C0C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