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83241"/>
        <c:axId val="50637296"/>
      </c:barChart>
      <c:catAx>
        <c:axId val="817832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37296"/>
        <c:crosses val="autoZero"/>
        <c:auto val="1"/>
        <c:lblAlgn val="ctr"/>
        <c:lblOffset val="100"/>
        <c:noMultiLvlLbl val="0"/>
      </c:catAx>
      <c:valAx>
        <c:axId val="50637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832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9BA-0513-4B92-84F7-DEA0E775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FFD-ACB4-4514-B379-328689B3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9F1-7769-4912-9665-F65A9057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CAC-B875-45E8-B957-7F30B71C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F8D-45DA-45B3-8D7D-6C8C0E4A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814-87BF-43E1-BEDD-00164A1E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85D-508E-4013-AC5F-B7847EC9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C24-93E5-4AB6-827D-6865F93A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725-465A-4C26-BC4B-1C22EA9C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815-7566-4D18-81A2-A8652D17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832-F7C3-43F1-A9A8-7A160474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A80-84BA-4196-B13F-115AD26F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E2CB2-C159-4BF8-8C2C-91676B0A2F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