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97959"/>
        <c:axId val="89147495"/>
      </c:barChart>
      <c:catAx>
        <c:axId val="27597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7495"/>
        <c:crosses val="autoZero"/>
        <c:auto val="1"/>
        <c:lblAlgn val="ctr"/>
        <c:lblOffset val="100"/>
        <c:noMultiLvlLbl val="0"/>
      </c:catAx>
      <c:valAx>
        <c:axId val="89147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97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384-94A2-4C84-BF71-4CDA87EE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86B-6B53-4DA1-8D8F-0780ADB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B92-830F-4FA6-8F14-D759C31E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42F-B4F2-4E1E-A1A6-54F8F804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94D-A94F-43EB-8922-B31200FC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1CB-AB70-4327-B3FA-EE95AC9E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E0F-EEC2-4DB7-BF92-3ED86BB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467-87FB-4232-8BFA-7B14DD8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B9C-110F-4CCB-AA15-415E6FD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9CC-9931-4001-B50A-F7AB713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CCB-06DB-4FB6-A5FA-8E23B047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71A-1807-4568-9B76-8CC2FEC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0AA0C-C8E4-4BDD-9317-749C2E1D9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