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7839"/>
        <c:axId val="21785230"/>
      </c:barChart>
      <c:catAx>
        <c:axId val="2027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85230"/>
        <c:crosses val="autoZero"/>
        <c:auto val="1"/>
        <c:lblAlgn val="ctr"/>
        <c:lblOffset val="100"/>
        <c:noMultiLvlLbl val="0"/>
      </c:catAx>
      <c:valAx>
        <c:axId val="21785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7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766-5844-401D-AA7D-EB9C4C99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9A6-6E5D-403F-8825-291B9B1D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FAF-2061-4337-8D5E-FEA0BC4D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CFA-7C22-408E-84AD-5A3920AB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79C-95E3-4A09-A3DB-4AA374F1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A4B-51F9-402B-8164-23273028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2BB-F217-4219-BA99-79B21999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508-911E-4853-B922-5C368978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2F8-48ED-4D84-BFF9-EAACEF85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948-5F2A-4015-B177-3A8638A2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F43-3158-4D5D-AF6A-381062E0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FEB-C4A9-4139-8D5E-DE92A94C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D01D0-EBBD-42E6-B9EA-377922D993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