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29222"/>
        <c:axId val="18495046"/>
      </c:barChart>
      <c:catAx>
        <c:axId val="70229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95046"/>
        <c:crosses val="autoZero"/>
        <c:auto val="1"/>
        <c:lblAlgn val="ctr"/>
        <c:lblOffset val="100"/>
        <c:noMultiLvlLbl val="0"/>
      </c:catAx>
      <c:valAx>
        <c:axId val="18495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29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0518-7784-4759-AD38-BEE0BA6A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B82-4CEB-468F-9475-774F9975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F3D-6EA9-4EE7-99D0-3FFB637AE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058-D68D-4429-BAB1-F3402EB0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F98E-006B-440C-A8FB-875961CB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132E-6066-4192-81AB-FEE25D12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F633-03E8-4D25-8ED0-BE34B2B2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BCBE-CBAF-4018-B8D5-DB38F522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36FC-300E-45F8-AE3E-AE6D208A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C67-82FE-4D6A-986C-A1B5D010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5B94-C80E-4B7A-BBB5-D1F5E3F7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B85A-DFD1-4526-88A5-5A99C6AB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47D52-D156-4D64-BA6A-F89995EC60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