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94042"/>
        <c:axId val="37926067"/>
      </c:barChart>
      <c:catAx>
        <c:axId val="49694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26067"/>
        <c:crosses val="autoZero"/>
        <c:auto val="1"/>
        <c:lblAlgn val="ctr"/>
        <c:lblOffset val="100"/>
        <c:noMultiLvlLbl val="0"/>
      </c:catAx>
      <c:valAx>
        <c:axId val="37926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94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134-305C-424F-9B1D-511F3C2A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E11-2DD4-4CB7-BC5F-ED0744AC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5C6-28CF-4F82-AE17-1AF19A3D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9DA-113E-45B4-B223-A64AF47E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89C-2A62-4F96-A341-E11E55C0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90A-078D-49BD-B80F-A48C70AB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3C2-92C5-42CF-AE72-CC4347D3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28D-C119-46E9-9E39-5B7CCA7A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759-183E-4E85-AE8E-FEAA102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C67-28BA-4CAC-875A-F05977F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6A5-AD6B-461B-A6BB-2FAD0F9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79D-96DA-44D0-8362-85ED91F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EF5E8-BF58-4AC7-B6D0-F5B9FA869A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