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398573"/>
        <c:axId val="88056029"/>
      </c:barChart>
      <c:catAx>
        <c:axId val="439857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8056029"/>
        <c:crosses val="autoZero"/>
        <c:auto val="1"/>
        <c:lblAlgn val="ctr"/>
        <c:lblOffset val="100"/>
        <c:noMultiLvlLbl val="0"/>
      </c:catAx>
      <c:valAx>
        <c:axId val="8805602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9857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D35F3-5485-404A-ABD3-AD82E1C9C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5A245-F832-43B2-9797-73E543616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FCA7F-5628-42F0-9D9B-77584BA2B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9980D-3B0A-4C82-AD49-3214AC874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46DA5-BDD2-4936-8E3C-AF501C0A0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346CA-75AD-430C-B4A4-F45C00A57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F36C9-8EF2-4C51-9B64-1DFC09DC1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C893D-F8F9-4F80-BB7F-6DD9F1B86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A3080-DA0C-4C3D-BE99-683A3CE34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10FC3-3A77-4ED9-9E0C-F7B4FC58E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27DC6-FE03-4E24-B1DC-B59E9029E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FBE93-CD3A-489E-BDEF-75D36D1F7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2EA127-AA0A-4006-9603-801AADFD7CD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