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89665"/>
        <c:axId val="47559189"/>
      </c:barChart>
      <c:catAx>
        <c:axId val="36989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59189"/>
        <c:crosses val="autoZero"/>
        <c:auto val="1"/>
        <c:lblAlgn val="ctr"/>
        <c:lblOffset val="100"/>
        <c:noMultiLvlLbl val="0"/>
      </c:catAx>
      <c:valAx>
        <c:axId val="47559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9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048-3865-48A3-AAAF-01E856F5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71B-1E4E-4071-8D72-97688E6F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2D4-6462-46BD-8F84-AC9C7732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969-2410-40ED-A1F8-37E0AC5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965-1282-4EC5-9F89-F7D239B2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A27-3B44-4E71-A21D-E613E8F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E14-4C92-48D2-9B85-EE1341C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23B-EDC4-4B79-B59D-97A8CC3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09D-8075-4162-91F9-45BA479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44F-7179-4736-8F8A-7F531926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FD4-CAF9-482B-B565-928EBEE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539-ADB9-47DB-A54C-B0B3029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5B424-A4BF-4B34-B4A0-CD74FFE3B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